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B6D-F6DA-4F3E-9D3B-F7232A7D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7E7-0251-4E65-A91F-D7415D6F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F30-EBE0-4CA4-80CD-C4B899CF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2D7-D77C-497E-96C0-C1114C6B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7C6D-7805-43E8-8A85-2BC59187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80E7-56C5-42DF-9EA7-C930FBDD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F899-635B-4245-9EE3-4A06A8ED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4C43-2375-4087-870B-E04BE0EC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C35F-BF7A-48BD-8D1C-3C542ECD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35B0-6C93-4CE7-A1C0-44168765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A9EF-9EC5-4FAE-B1B1-2DF1802D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A06-E01A-4AD4-BBC0-FC83C917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F0EE-DFE4-4B3A-A0A9-B5A07945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05CB-EB24-478C-9611-FD855D08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FCD3-612B-4A12-93C8-390369EE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0EF2-722F-4374-9156-A9E233D3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B546-131B-4A02-93EC-4C69D990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420-D920-4AC7-A874-D1FFD845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C31-D994-43E4-B4A6-51FF2227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152-3CEF-456B-8722-0A915132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D37-CAAD-4616-9A19-46046724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FED-7083-46BE-BD65-97AF08C9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793-1EE8-479B-B65F-363C2916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670-C1C0-420E-9A6C-EA5594F2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2F9E-A14A-42B1-B07C-D97DC1632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CD01-AEC9-40A0-A599-591430C29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dwardian Script ITC"/>
              </a:rPr>
              <a:t>             </a:t>
            </a:r>
            <a:r>
              <a:rPr b="1" lang="en-US" sz="9600" spc="-1" strike="noStrike">
                <a:solidFill>
                  <a:srgbClr val="000000"/>
                </a:solidFill>
                <a:latin typeface="Edwardian Script ITC"/>
              </a:rPr>
              <a:t>Mi Casa</a:t>
            </a:r>
            <a:endParaRPr b="1" lang="en-US" sz="9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Por: Regan Fly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garaje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garaje es moder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867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piscina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piscina es impresion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93432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Thanks for watching</a:t>
            </a: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: Regan Flyn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lackadder ITC"/>
              </a:rPr>
              <a:t>              </a:t>
            </a:r>
            <a:r>
              <a:rPr b="1" lang="en-US" sz="8000" spc="-1" strike="noStrike">
                <a:solidFill>
                  <a:srgbClr val="000000"/>
                </a:solidFill>
                <a:latin typeface="Edwardian Script ITC"/>
              </a:rPr>
              <a:t>Mi casa es muy grande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asa magni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696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dwardian Script ITC"/>
              </a:rPr>
              <a:t>                   </a:t>
            </a: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cocina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ocina es fabulosa</a:t>
            </a:r>
            <a:r>
              <a:rPr b="0" lang="en-US" sz="32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93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dwardian Script ITC"/>
              </a:rPr>
              <a:t>               </a:t>
            </a: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Comedor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omedor es monder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94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0720" y="374400"/>
            <a:ext cx="824544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dwardian Script ITC"/>
              </a:rPr>
              <a:t>                  </a:t>
            </a: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sala</a:t>
            </a:r>
            <a:endParaRPr b="1" lang="en-US" sz="8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sala es estupe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705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Baño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es luj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5790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cuarto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3616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uarto es gr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754380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patio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patio es incred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67820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Mi jardin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jardin es bel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7010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25:53Z</dcterms:created>
  <dc:creator>flynnreg</dc:creator>
  <dc:description/>
  <dc:language>en-US</dc:language>
  <cp:lastModifiedBy>flynnreg</cp:lastModifiedBy>
  <dcterms:modified xsi:type="dcterms:W3CDTF">2012-03-28T18:05:41Z</dcterms:modified>
  <cp:revision>5</cp:revision>
  <dc:subject/>
  <dc:title>Mi Casa</dc:title>
</cp:coreProperties>
</file>